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Lati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D5DA-0DC8-432B-A5E5-4D8894706DA5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CB0A-54A0-46B8-923D-FEC4782B03E5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958A-0766-46E2-9480-325AB339A429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82CB-E8F1-4406-8E9E-53A96F3CBF89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6673-54CB-4956-A8D4-570A1BCA747C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D388-B5AF-4E9E-893B-D9C57A2582C6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2916-5889-44EE-A743-8EB1537226F4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03B3-6442-48D8-8F91-D9ED46D833C4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90B6-F270-45D6-A893-4B2205FDDBBF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27FC-95BA-4F41-A825-0BE4B39CF4DB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F7E6-ACEA-4DB1-9678-8B9243D1E84B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BB3C-C2E2-4AA1-8060-9CFFB302B2C4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EC8F-4508-445B-9D56-6BC2A4FB30FE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7946-D749-49ED-AD9E-FDBCBA1279F0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7455-C775-47C2-82F3-48B9EE9C70B8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E174-60AD-4A10-8C71-E38216BCE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12D5-F9C6-44AC-9D46-040141C7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B60E-64A8-4208-93B3-09690F3D1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8818-9953-428D-B8A8-C1413C9B6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1F39-CC09-4034-AC12-57F567D6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A72B-9C80-4AFB-8A60-7263436E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C0FA-8403-4C27-B762-4FF45599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4011-D620-457C-A721-0D7732CA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4502-1CB5-4BCB-9DE6-129665B2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4FB8-BF5C-4974-A179-AB107A84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E448-0C29-40F0-A5BF-69FD112B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D24B-4AC2-4FDF-83C2-7B666C2F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1E83-8080-49F0-9DB1-C11FAF0D3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welve major deities of ancient 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GaramondLatin"/>
              </a:rPr>
              <a:t>Nuntius deōrum Rōmānōrum quī gerit ālas in caligīs et in petasō.  Deus quī prōtegit viatōrēs et mercātōrē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066680" y="36565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Latin"/>
              </a:rPr>
              <a:t>Mercurius</a:t>
            </a: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  <p:pic>
        <p:nvPicPr>
          <p:cNvPr id="75" name="Picture 7" descr="ElecHseEm6"/>
          <p:cNvPicPr/>
          <p:nvPr/>
        </p:nvPicPr>
        <p:blipFill>
          <a:blip r:embed="rId1"/>
          <a:stretch/>
        </p:blipFill>
        <p:spPr>
          <a:xfrm>
            <a:off x="4724280" y="1828800"/>
            <a:ext cx="2241720" cy="430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GaramondLatin"/>
              </a:rPr>
              <a:t>Dea messis et cultūrae agrōrum; tenet frūment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ceres"/>
          <p:cNvPicPr/>
          <p:nvPr/>
        </p:nvPicPr>
        <p:blipFill>
          <a:blip r:embed="rId1"/>
          <a:stretch/>
        </p:blipFill>
        <p:spPr>
          <a:xfrm>
            <a:off x="2743200" y="2209680"/>
            <a:ext cx="3814920" cy="32878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2971800" y="567576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ēs</a:t>
            </a: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GaramondLatin"/>
              </a:rPr>
              <a:t>Deus quī facit arma prō virīs et fulgurēs prō I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11354_14a8079eb6"/>
          <p:cNvPicPr/>
          <p:nvPr/>
        </p:nvPicPr>
        <p:blipFill>
          <a:blip r:embed="rId1"/>
          <a:stretch/>
        </p:blipFill>
        <p:spPr>
          <a:xfrm>
            <a:off x="4952880" y="1600200"/>
            <a:ext cx="2087640" cy="40384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990720" y="3123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Latin"/>
              </a:rPr>
              <a:t>Vulcānus</a:t>
            </a: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GaramondLatin"/>
              </a:rPr>
              <a:t>Dea sapientiae, et bellī, et contextūs.  Adulta ea nata est ex fronte patris Iov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5" descr="minerva"/>
          <p:cNvPicPr/>
          <p:nvPr/>
        </p:nvPicPr>
        <p:blipFill>
          <a:blip r:embed="rId1"/>
          <a:stretch/>
        </p:blipFill>
        <p:spPr>
          <a:xfrm>
            <a:off x="3124080" y="1828800"/>
            <a:ext cx="1667160" cy="40798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5486400" y="3771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va</a:t>
            </a: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1401840" y="104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  <p:pic>
        <p:nvPicPr>
          <p:cNvPr id="86" name="Picture 5" descr="ceres"/>
          <p:cNvPicPr/>
          <p:nvPr/>
        </p:nvPicPr>
        <p:blipFill>
          <a:blip r:embed="rId1"/>
          <a:stretch/>
        </p:blipFill>
        <p:spPr>
          <a:xfrm>
            <a:off x="3271680" y="2308320"/>
            <a:ext cx="260064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Latin"/>
              </a:rPr>
              <a:t>Deus s</a:t>
            </a:r>
            <a:r>
              <a:rPr b="0" lang="is-IS" sz="2400" spc="-1" strike="noStrike">
                <a:solidFill>
                  <a:srgbClr val="000000"/>
                </a:solidFill>
                <a:latin typeface="GaramondLatin"/>
              </a:rPr>
              <a:t>ōlis, mūsicae, arcūs &amp; sagittārum, et medicīn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apollo"/>
          <p:cNvPicPr/>
          <p:nvPr/>
        </p:nvPicPr>
        <p:blipFill>
          <a:blip r:embed="rId1"/>
          <a:stretch/>
        </p:blipFill>
        <p:spPr>
          <a:xfrm>
            <a:off x="1828800" y="1469880"/>
            <a:ext cx="5410080" cy="421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2590920" y="579024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Latin"/>
              </a:rPr>
              <a:t>Apollō</a:t>
            </a: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GaramondLatin"/>
              </a:rPr>
              <a:t>Dea Lūnae et vēnātiōnis.  Graecē nōminātur Artemis.  Frāter est Apollō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diana"/>
          <p:cNvPicPr/>
          <p:nvPr/>
        </p:nvPicPr>
        <p:blipFill>
          <a:blip r:embed="rId1"/>
          <a:stretch/>
        </p:blipFill>
        <p:spPr>
          <a:xfrm>
            <a:off x="3124080" y="1676520"/>
            <a:ext cx="2681280" cy="36939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2133720" y="579024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īāna</a:t>
            </a: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GaramondLatin"/>
              </a:rPr>
              <a:t>Rēx deōrum hominumque.  Facit fulguribus tempestātes.  Eius avis est aqui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5" descr="jupiter"/>
          <p:cNvPicPr/>
          <p:nvPr/>
        </p:nvPicPr>
        <p:blipFill>
          <a:blip r:embed="rId1"/>
          <a:stretch/>
        </p:blipFill>
        <p:spPr>
          <a:xfrm>
            <a:off x="3200400" y="1752480"/>
            <a:ext cx="2814480" cy="42228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5562720" y="3904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uppiter</a:t>
            </a: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GaramondLatin-Roman"/>
                <a:ea typeface="GaramondLatin-Roman"/>
              </a:rPr>
              <a:t>Dea amōris et pulchritūdinis.  Māter hērōis Aenēa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romvenus"/>
          <p:cNvPicPr/>
          <p:nvPr/>
        </p:nvPicPr>
        <p:blipFill>
          <a:blip r:embed="rId1"/>
          <a:stretch/>
        </p:blipFill>
        <p:spPr>
          <a:xfrm>
            <a:off x="3773520" y="2057400"/>
            <a:ext cx="1596960" cy="27432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3276720" y="54853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Latin-Roman"/>
                <a:ea typeface="GaramondLatin-Roman"/>
              </a:rPr>
              <a:t>Venus</a:t>
            </a: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GaramondLatin"/>
              </a:rPr>
              <a:t>Deus maris. Frāter est Iuppiter.  Terra tremefactātur tridente suō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neptune"/>
          <p:cNvPicPr/>
          <p:nvPr/>
        </p:nvPicPr>
        <p:blipFill>
          <a:blip r:embed="rId1"/>
          <a:stretch/>
        </p:blipFill>
        <p:spPr>
          <a:xfrm>
            <a:off x="1752480" y="1905120"/>
            <a:ext cx="3017880" cy="38862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5410080" y="33516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Latin"/>
              </a:rPr>
              <a:t>Neptūnus</a:t>
            </a: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GaramondLatin"/>
              </a:rPr>
              <a:t>Rēgīna deōrum et hominum.  Marītus eius est Iuppiter.  Pavō est eius av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juno"/>
          <p:cNvPicPr/>
          <p:nvPr/>
        </p:nvPicPr>
        <p:blipFill>
          <a:blip r:embed="rId1"/>
          <a:stretch/>
        </p:blipFill>
        <p:spPr>
          <a:xfrm>
            <a:off x="3505320" y="1523880"/>
            <a:ext cx="2133360" cy="45100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914400" y="3771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ūnō</a:t>
            </a: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GaramondLatin"/>
              </a:rPr>
              <a:t>Deus bellī et pater Rōmulī et Remī.  Gerit arma ad Rōmam dēfendend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Mars-soldiers-CpyRt"/>
          <p:cNvPicPr/>
          <p:nvPr/>
        </p:nvPicPr>
        <p:blipFill>
          <a:blip r:embed="rId1"/>
          <a:stretch/>
        </p:blipFill>
        <p:spPr>
          <a:xfrm>
            <a:off x="1981080" y="1905120"/>
            <a:ext cx="3138480" cy="33796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5638680" y="31611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GaramondLatin"/>
              </a:rPr>
              <a:t>Dea flammae sacrae quae in templō suō semper ardet ut Rōma omnibus temporibus tūta s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romvesta"/>
          <p:cNvPicPr/>
          <p:nvPr/>
        </p:nvPicPr>
        <p:blipFill>
          <a:blip r:embed="rId1"/>
          <a:stretch/>
        </p:blipFill>
        <p:spPr>
          <a:xfrm>
            <a:off x="3276720" y="1752480"/>
            <a:ext cx="1751040" cy="35816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5867280" y="4151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Latin"/>
              </a:rPr>
              <a:t>Vesta</a:t>
            </a: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13:02:39Z</dcterms:created>
  <dc:creator>William H. Snyder</dc:creator>
  <dc:description/>
  <dc:language>en-US</dc:language>
  <cp:lastModifiedBy>CFF</cp:lastModifiedBy>
  <dcterms:modified xsi:type="dcterms:W3CDTF">2011-01-13T13:10:41Z</dcterms:modified>
  <cp:revision>12</cp:revision>
  <dc:subject/>
  <dc:title>The twelve major deities of ancient Rome</dc:title>
</cp:coreProperties>
</file>